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13.gif" ContentType="image/gif"/>
  <Override PartName="/ppt/media/image16.jpeg" ContentType="image/jpe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8.gif" ContentType="image/gif"/>
  <Override PartName="/ppt/media/image6.png" ContentType="image/png"/>
  <Override PartName="/ppt/media/image3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CED-3CAD-4882-A94C-6795158C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B7D-A010-4F9E-A9A2-5668F15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14F-D2F4-45BE-A6F5-821C0240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402-97CA-4512-B86C-1C48479D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7AD-28A2-4CA5-9841-9E734AF7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D71-9E88-4013-B742-AF2138B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217-1454-40F0-9C50-95885C0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FE7-C9C6-467D-AA33-84E4CBB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D39-88A0-4520-B272-714F2EE8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9AA-FABF-4F74-A968-5399F51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CB4-F15D-4461-B91D-522BF5A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DF6-6591-4F60-85B1-B4F7756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83B-3FF1-4FD4-B91A-8103F70629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0F59-544E-4657-960F-B4FDF5B3D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smological Aspects of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ino Physics 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7320" y="5481360"/>
            <a:ext cx="32022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gio Pastor (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61st SU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St Andrews, August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200" y="5686560"/>
            <a:ext cx="2346120" cy="601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913440" y="5429160"/>
            <a:ext cx="1816200" cy="1066680"/>
            <a:chOff x="6913440" y="5429160"/>
            <a:chExt cx="1816200" cy="10666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696080" y="5429160"/>
              <a:ext cx="1033560" cy="1066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913440" y="5429160"/>
              <a:ext cx="7668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51520" y="1463760"/>
            <a:ext cx="195912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56120" y="3691080"/>
            <a:ext cx="3135240" cy="16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54200" y="1639800"/>
            <a:ext cx="2733480" cy="205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0320" y="2446200"/>
            <a:ext cx="865080" cy="69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59320" y="2319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100000">
            <a:off x="5135040" y="2319120"/>
            <a:ext cx="924120" cy="396720"/>
          </a:xfrm>
          <a:prstGeom prst="leftRightArrow">
            <a:avLst>
              <a:gd name="adj1" fmla="val 50000"/>
              <a:gd name="adj2" fmla="val 4637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9320" y="3233880"/>
            <a:ext cx="517320" cy="684000"/>
          </a:xfrm>
          <a:prstGeom prst="upDownArrow">
            <a:avLst>
              <a:gd name="adj1" fmla="val 50000"/>
              <a:gd name="adj2" fmla="val 2632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00000">
            <a:off x="3349440" y="2319120"/>
            <a:ext cx="923760" cy="396720"/>
          </a:xfrm>
          <a:prstGeom prst="leftRightArrow">
            <a:avLst>
              <a:gd name="adj1" fmla="val 50000"/>
              <a:gd name="adj2" fmla="val 463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1240" y="-2268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41280" y="1038240"/>
          <a:ext cx="8515440" cy="5245200"/>
        </p:xfrm>
        <a:graphic>
          <a:graphicData uri="http://schemas.openxmlformats.org/drawingml/2006/table">
            <a:tbl>
              <a:tblPr/>
              <a:tblGrid>
                <a:gridCol w="3684600"/>
                <a:gridCol w="2647800"/>
                <a:gridCol w="21830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hikawa et al, PRD 71 (2005) 043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6 -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CAP 0305 (2003) 004</a:t>
                      </a: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S Coll.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69 (2004) 103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ger et al, PLB 595 (2004) 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tty et al, PRD 69 (2004) 123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bolo et al, MNRAS 353 (2004) 7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.0 - 1.7</a:t>
                      </a: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0.6-1.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1, other CMB, 2dF/SDSS-gal </a:t>
                      </a:r>
                      <a:r>
                        <a:rPr b="1" lang="da-DK" sz="15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HST,SNIa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J Suppl 148 (2003) 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hep-ph/0409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42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1, other CMB, 2dF/SDSS-gal, 2dF/SDSS-bias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8480" y="-3369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41280" y="581040"/>
          <a:ext cx="8454960" cy="3092400"/>
        </p:xfrm>
        <a:graphic>
          <a:graphicData uri="http://schemas.openxmlformats.org/drawingml/2006/table">
            <a:tbl>
              <a:tblPr/>
              <a:tblGrid>
                <a:gridCol w="3589200"/>
                <a:gridCol w="2811600"/>
                <a:gridCol w="205416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kugita et al, astro-ph/0605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7 –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0.68 – 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3, other CMB, 2dF/SDSS-gal, S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astro-ph/06043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17-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3, other CMB, 2dF/SDSS-gal, SDSS-BAO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541520" y="3714840"/>
            <a:ext cx="6431040" cy="2850120"/>
            <a:chOff x="1541520" y="3714840"/>
            <a:chExt cx="6431040" cy="2850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21451" t="0" r="0" b="0"/>
            <a:stretch/>
          </p:blipFill>
          <p:spPr>
            <a:xfrm>
              <a:off x="1541520" y="3714840"/>
              <a:ext cx="64310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492800" y="6227640"/>
              <a:ext cx="32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Fogli et al., hep-ph/06080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eutrino masses in 3-neutrino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0" y="5891040"/>
            <a:ext cx="46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ig from Strumia &amp; Vissani, NPB726(2005)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560" y="966960"/>
            <a:ext cx="5248440" cy="49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37200" y="1181160"/>
            <a:ext cx="3106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CMB + galaxy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23960" y="2111400"/>
            <a:ext cx="7520040" cy="398880"/>
            <a:chOff x="1623960" y="2111400"/>
            <a:chExt cx="7520040" cy="398880"/>
          </a:xfrm>
        </p:grpSpPr>
        <p:sp>
          <p:nvSpPr>
            <p:cNvPr id="115" name=""/>
            <p:cNvSpPr/>
            <p:nvPr/>
          </p:nvSpPr>
          <p:spPr>
            <a:xfrm>
              <a:off x="6037200" y="21114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Comic Sans MS"/>
                </a:rPr>
                <a:t>+ HST, SNI-a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11400"/>
              <a:ext cx="4094280" cy="371520"/>
            </a:xfrm>
            <a:prstGeom prst="rect">
              <a:avLst/>
            </a:prstGeom>
            <a:solidFill>
              <a:srgbClr val="000099">
                <a:alpha val="50000"/>
              </a:srgbClr>
            </a:soli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23960" y="2482920"/>
            <a:ext cx="7520040" cy="398880"/>
            <a:chOff x="1623960" y="2482920"/>
            <a:chExt cx="7520040" cy="398880"/>
          </a:xfrm>
        </p:grpSpPr>
        <p:sp>
          <p:nvSpPr>
            <p:cNvPr id="118" name=""/>
            <p:cNvSpPr/>
            <p:nvPr/>
          </p:nvSpPr>
          <p:spPr>
            <a:xfrm>
              <a:off x="6037200" y="248292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</a:t>
              </a:r>
              <a:r>
                <a:rPr b="1" lang="da-DK" sz="2000" spc="-1" strike="noStrike">
                  <a:solidFill>
                    <a:srgbClr val="ff0000"/>
                  </a:solidFill>
                  <a:latin typeface="Comic Sans MS"/>
                </a:rPr>
                <a:t>BAO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 and/or b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3960" y="2482920"/>
              <a:ext cx="4094280" cy="365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23960" y="2847960"/>
            <a:ext cx="7520040" cy="646200"/>
            <a:chOff x="1623960" y="2847960"/>
            <a:chExt cx="7520040" cy="646200"/>
          </a:xfrm>
        </p:grpSpPr>
        <p:sp>
          <p:nvSpPr>
            <p:cNvPr id="121" name=""/>
            <p:cNvSpPr/>
            <p:nvPr/>
          </p:nvSpPr>
          <p:spPr>
            <a:xfrm>
              <a:off x="6037200" y="30510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including </a:t>
              </a:r>
              <a:r>
                <a:rPr b="0" lang="da-DK" sz="2000" spc="-1" strike="noStrike">
                  <a:solidFill>
                    <a:srgbClr val="ff0000"/>
                  </a:solidFill>
                  <a:latin typeface="Comic Sans MS"/>
                </a:rPr>
                <a:t>Ly-</a:t>
              </a:r>
              <a:r>
                <a:rPr b="0" lang="da-DK" sz="20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3960" y="2847960"/>
              <a:ext cx="4094280" cy="64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Tritium 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decay, 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0" y="4889520"/>
            <a:ext cx="1852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</a:t>
            </a: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4840" y="770040"/>
            <a:ext cx="6429600" cy="597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315120"/>
            <a:ext cx="384336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840" y="971640"/>
            <a:ext cx="30956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V="1">
            <a:off x="1895400" y="5470560"/>
            <a:ext cx="696960" cy="84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4080" y="1374840"/>
            <a:ext cx="1298520" cy="571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0" y="4889520"/>
            <a:ext cx="30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 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24160" y="1017720"/>
            <a:ext cx="5254200" cy="5046120"/>
            <a:chOff x="3224160" y="1017720"/>
            <a:chExt cx="5254200" cy="50461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24160" y="1017720"/>
              <a:ext cx="5254200" cy="50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092360" y="1323360"/>
              <a:ext cx="600840" cy="4006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81440" y="1003320"/>
            <a:ext cx="5373720" cy="553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81440" y="1003320"/>
            <a:ext cx="5597280" cy="55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3840" y="770040"/>
            <a:ext cx="4311720" cy="45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H="1" flipV="1">
            <a:off x="1272960" y="1244520"/>
            <a:ext cx="1950840" cy="222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9560" y="111240"/>
            <a:ext cx="8226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mic Sans MS"/>
              </a:rPr>
              <a:t>Parameter degeneracy: Neutrino mass and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749160"/>
            <a:ext cx="83106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cosmological models with more parameters the neutrino mass bounds can be rela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: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intessence-like dark energy with </a:t>
            </a:r>
            <a:r>
              <a:rPr b="0" lang="el-GR" sz="2000" spc="-1" strike="noStrike">
                <a:solidFill>
                  <a:srgbClr val="ffff00"/>
                </a:solidFill>
                <a:latin typeface="Comic Sans MS"/>
              </a:rPr>
              <a:t>ρ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=w p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82800" y="1947960"/>
            <a:ext cx="6783480" cy="4425120"/>
            <a:chOff x="1882800" y="1947960"/>
            <a:chExt cx="6783480" cy="44251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882800" y="1947960"/>
              <a:ext cx="56372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478480" y="6035760"/>
              <a:ext cx="31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MAP Coll,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Comic Sans MS"/>
                </a:rPr>
                <a:t>astro-ph/0607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0760" y="3179880"/>
              <a:ext cx="43956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58280" y="2752560"/>
              <a:ext cx="34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ff3300"/>
                  </a:solidFill>
                  <a:latin typeface="Comic Sans MS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3600" y="1098720"/>
            <a:ext cx="7355160" cy="40179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&lt;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the radiation content of the Univer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ffective number of relativistic neutrino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ditional parametrization of the energy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red in relativistic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31960" y="2104920"/>
            <a:ext cx="586728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8720" y="2284560"/>
            <a:ext cx="635040" cy="6300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761080" y="2766960"/>
            <a:ext cx="649080" cy="555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Relativistic particles in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7680" y="1257480"/>
            <a:ext cx="8175600" cy="3360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 radiation can b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alars, pseudoscalars, sterile neutrinos (totally or partial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thermalized, bulk), neutrinos in very low-energy rehe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enarios, relativistic decay products of heavy particl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ticular case: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relic neutrino asymme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" y="5062680"/>
            <a:ext cx="8175600" cy="927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aints on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from BBN and from CMB+L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xtra relativistic partic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41040" y="255240"/>
            <a:ext cx="71168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fect o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 later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1206360"/>
            <a:ext cx="89186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modifies the radiation cont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Changes the epoch of matter-radiation equiva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373480"/>
            <a:ext cx="4545000" cy="319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5320" y="26859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3520" y="43070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4600" y="2395440"/>
            <a:ext cx="4289400" cy="309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73960" y="3511440"/>
            <a:ext cx="245880" cy="376200"/>
          </a:xfrm>
          <a:prstGeom prst="downArrow">
            <a:avLst>
              <a:gd name="adj1" fmla="val 50000"/>
              <a:gd name="adj2" fmla="val 382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0200" y="3268800"/>
            <a:ext cx="336600" cy="242640"/>
          </a:xfrm>
          <a:prstGeom prst="leftArrow">
            <a:avLst>
              <a:gd name="adj1" fmla="val 50000"/>
              <a:gd name="adj2" fmla="val 34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CMB+LSS: allowed ranges for N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1547640"/>
            <a:ext cx="7772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Set of parameters: (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cd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h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A , b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eff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ATA: WMAP + other CMB + LSS + HST (+ SN-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Non-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cent resu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30520" y="4105440"/>
            <a:ext cx="6124320" cy="1139760"/>
            <a:chOff x="2630520" y="4105440"/>
            <a:chExt cx="6124320" cy="1139760"/>
          </a:xfrm>
        </p:grpSpPr>
        <p:sp>
          <p:nvSpPr>
            <p:cNvPr id="165" name=""/>
            <p:cNvSpPr/>
            <p:nvPr/>
          </p:nvSpPr>
          <p:spPr>
            <a:xfrm>
              <a:off x="5141880" y="4318200"/>
              <a:ext cx="36129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ierpaoli, MNRAS 342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81080" y="4105440"/>
              <a:ext cx="221328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097080" y="4307040"/>
                  <a:ext cx="1673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630520" y="4946760"/>
              <a:ext cx="1501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357200" y="2563920"/>
            <a:ext cx="7282080" cy="1407240"/>
            <a:chOff x="1357200" y="2563920"/>
            <a:chExt cx="7282080" cy="1407240"/>
          </a:xfrm>
        </p:grpSpPr>
        <p:sp>
          <p:nvSpPr>
            <p:cNvPr id="170" name=""/>
            <p:cNvSpPr/>
            <p:nvPr/>
          </p:nvSpPr>
          <p:spPr>
            <a:xfrm>
              <a:off x="1357200" y="3633840"/>
              <a:ext cx="39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rotty, Lesgourgues &amp; SP, PRD 67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636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693880" y="2757600"/>
                  <a:ext cx="16984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5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392360" y="2563920"/>
              <a:ext cx="1501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268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5560" y="3633840"/>
              <a:ext cx="29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annestad, JCAP 0305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937120" y="2757600"/>
                  <a:ext cx="172404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"/>
          <p:cNvSpPr/>
          <p:nvPr/>
        </p:nvSpPr>
        <p:spPr>
          <a:xfrm>
            <a:off x="5029200" y="5643720"/>
            <a:ext cx="39322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Hannestad &amp; Raffelt, 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5430960"/>
            <a:ext cx="221292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784600" y="5643720"/>
                <a:ext cx="20732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17840" y="6272280"/>
            <a:ext cx="1501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5% 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4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Neutrino Physics and Cosm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7240" y="1373040"/>
            <a:ext cx="42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rd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400" y="2054160"/>
            <a:ext cx="7772400" cy="63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MB, LSS and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400" y="2984400"/>
            <a:ext cx="7772400" cy="63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the radiation content (N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3906720"/>
            <a:ext cx="7772400" cy="63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uture sensitivitie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osm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39760"/>
            <a:ext cx="8240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xt CMB data from WMAP and PLANCK (other CMB experiments on large l’s) temperature and polarization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orecast analysis in Ω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Λ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=0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43520" y="2190600"/>
            <a:ext cx="33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opez et al, PRL 82 (1999) 39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840" y="253224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3889440" y="4021200"/>
            <a:ext cx="428400" cy="676080"/>
          </a:xfrm>
          <a:prstGeom prst="downArrow">
            <a:avLst>
              <a:gd name="adj1" fmla="val 50000"/>
              <a:gd name="adj2" fmla="val 39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0960" y="3471840"/>
            <a:ext cx="485640" cy="700200"/>
          </a:xfrm>
          <a:prstGeom prst="downArrow">
            <a:avLst>
              <a:gd name="adj1" fmla="val 50000"/>
              <a:gd name="adj2" fmla="val 36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62280" y="4878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W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844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PLAN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4320" y="1424160"/>
            <a:ext cx="2371680" cy="145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d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rg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0" y="25131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wen et a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1800" y="1733400"/>
            <a:ext cx="2840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3 (W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0.2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014720" y="1757520"/>
            <a:ext cx="549360" cy="961920"/>
          </a:xfrm>
          <a:prstGeom prst="downArrow">
            <a:avLst>
              <a:gd name="adj1" fmla="val 50000"/>
              <a:gd name="adj2" fmla="val 437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4320" y="3413160"/>
            <a:ext cx="723096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95720" y="55306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Bashinsky &amp; Seljak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57680" y="3481560"/>
            <a:ext cx="1162080" cy="1949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The bound on </a:t>
            </a:r>
            <a:r>
              <a:rPr b="1" lang="el-GR" sz="3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l-GR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 depends on the number of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33560" y="1400040"/>
            <a:ext cx="75326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in the 3+1 scenario, there are  4 neutrinos (including thermalized ster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bounds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ν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2200" y="1809720"/>
            <a:ext cx="39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azajian 2002, di Bari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080" y="2968560"/>
            <a:ext cx="8848440" cy="3808440"/>
            <a:chOff x="289080" y="2968560"/>
            <a:chExt cx="8848440" cy="3808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89080" y="2968560"/>
              <a:ext cx="4305240" cy="3808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4832280" y="4338720"/>
              <a:ext cx="43052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annestad JCAP 0305 (2003) 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(also Elgarøy &amp; Lahav, JCAP 0304 (2003) 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832280" y="2968560"/>
              <a:ext cx="4152960" cy="1096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2386080" y="342576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3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79880" y="36241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4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79880" y="504180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5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8680" y="6435720"/>
              <a:ext cx="121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annest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35000" y="44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95% 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9440" y="2968560"/>
              <a:ext cx="30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WMAP + Other CMB + 2dF + HST + SN-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degen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62480" y="2158920"/>
            <a:ext cx="4781520" cy="417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2" name=""/>
          <p:cNvGrpSpPr/>
          <p:nvPr/>
        </p:nvGrpSpPr>
        <p:grpSpPr>
          <a:xfrm>
            <a:off x="5680080" y="2616120"/>
            <a:ext cx="1824120" cy="1374120"/>
            <a:chOff x="5680080" y="2616120"/>
            <a:chExt cx="1824120" cy="1374120"/>
          </a:xfrm>
        </p:grpSpPr>
        <p:sp>
          <p:nvSpPr>
            <p:cNvPr id="213" name=""/>
            <p:cNvSpPr/>
            <p:nvPr/>
          </p:nvSpPr>
          <p:spPr>
            <a:xfrm>
              <a:off x="5680080" y="26161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"/>
                </a:rPr>
                <a:t>(0 eV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0080" y="30733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cc33"/>
                  </a:solidFill>
                  <a:latin typeface="Arial"/>
                </a:rPr>
                <a:t>(0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0080" y="3530520"/>
              <a:ext cx="18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(2.25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7840" y="1879560"/>
            <a:ext cx="4971960" cy="4457520"/>
            <a:chOff x="177840" y="1879560"/>
            <a:chExt cx="4971960" cy="44575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7840" y="1879560"/>
              <a:ext cx="4971960" cy="44575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569960" y="4209840"/>
              <a:ext cx="1824120" cy="1374120"/>
              <a:chOff x="1569960" y="4209840"/>
              <a:chExt cx="1824120" cy="1374120"/>
            </a:xfrm>
          </p:grpSpPr>
          <p:sp>
            <p:nvSpPr>
              <p:cNvPr id="219" name=""/>
              <p:cNvSpPr/>
              <p:nvPr/>
            </p:nvSpPr>
            <p:spPr>
              <a:xfrm>
                <a:off x="1569960" y="42098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Arial"/>
                  </a:rPr>
                  <a:t>(0 eV,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69960" y="46670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cc33"/>
                    </a:solidFill>
                    <a:latin typeface="Arial"/>
                  </a:rPr>
                  <a:t>(0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69960" y="5124240"/>
                <a:ext cx="18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Arial"/>
                  </a:rPr>
                  <a:t>(2.25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080" y="5143680"/>
            <a:ext cx="2766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JCAP 0404 (2004) 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32080" y="4925880"/>
            <a:ext cx="5735880" cy="159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6310440" y="5076720"/>
            <a:ext cx="1790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σ upper bound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Σ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ν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39272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0636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35040" y="979560"/>
            <a:ext cx="3433680" cy="353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05240" y="979560"/>
            <a:ext cx="376272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33920" y="979560"/>
            <a:ext cx="3434040" cy="3552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8520" y="451332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vious + priors (HST + SN-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800" y="5143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20696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508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400" y="979560"/>
            <a:ext cx="3434040" cy="35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7360" y="5118120"/>
            <a:ext cx="276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913280" y="1003320"/>
            <a:ext cx="4116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standard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52680"/>
            <a:ext cx="83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cosmological bounds on neutrino masses ar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odifi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f relic neutrinos hav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on-standard properti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or for non-standard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090960"/>
            <a:ext cx="7858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wo examples wher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cosmological bounds do not app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ssive neutrinos strongly coupled to a light scalar fiel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y could annihilate when becoming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Neutrinos coupled to the dark energy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DE density is a function of the neutrino mass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(mass-varying neutrin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thermal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049400"/>
            <a:ext cx="831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spectrum could be distorted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fte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neutrino decou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decay of a light scalar after B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176880" y="1541520"/>
                <a:ext cx="1224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-46080" y="2038320"/>
            <a:ext cx="9190080" cy="3859920"/>
            <a:chOff x="-46080" y="2038320"/>
            <a:chExt cx="9190080" cy="3859920"/>
          </a:xfrm>
        </p:grpSpPr>
        <p:sp>
          <p:nvSpPr>
            <p:cNvPr id="248" name=""/>
            <p:cNvSpPr/>
            <p:nvPr/>
          </p:nvSpPr>
          <p:spPr>
            <a:xfrm>
              <a:off x="3274920" y="5560920"/>
              <a:ext cx="586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Cuoco, Lesgourgues, Mangano &amp; SP, PRD 71 (2005) 1235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-46080" y="2038320"/>
              <a:ext cx="484344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62080" y="4775400"/>
              <a:ext cx="1292400" cy="1094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900080" y="3056040"/>
              <a:ext cx="463680" cy="155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719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ermal</a:t>
              </a:r>
              <a:r>
                <a:rPr b="0" lang="en-GB" sz="1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FD spect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44840" y="3983040"/>
              <a:ext cx="1440" cy="436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46320" y="3646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Distortion from </a:t>
              </a:r>
              <a:r>
                <a:rPr b="0" lang="en-GB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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83040" y="2286000"/>
            <a:ext cx="42703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CMB + LSS data still compatible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rge deviations from a thermal neutrino spectru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degeneracy NT distortion –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* Better expectations for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uture CMB + LSS dat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but model degeneracy NT-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43160" y="5022720"/>
                <a:ext cx="60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339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080" y="2354400"/>
            <a:ext cx="53956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+ galaxy redshift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and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 +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560" y="14000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future cosmological data will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3149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LANCK+SD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77040" y="2793960"/>
            <a:ext cx="3245760" cy="2422080"/>
            <a:chOff x="5477040" y="2793960"/>
            <a:chExt cx="3245760" cy="2422080"/>
          </a:xfrm>
        </p:grpSpPr>
        <p:sp>
          <p:nvSpPr>
            <p:cNvPr id="262" name=""/>
            <p:cNvSpPr/>
            <p:nvPr/>
          </p:nvSpPr>
          <p:spPr>
            <a:xfrm>
              <a:off x="5894280" y="4635360"/>
              <a:ext cx="282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Lesgourgues, SP &amp; Perotto, PRD 70 (2004) 0450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8800" y="2793960"/>
              <a:ext cx="28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Σm </a:t>
              </a: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detectable at 2σ</a:t>
              </a: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 if larg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77040" y="3375000"/>
              <a:ext cx="2815920" cy="12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0.21 eV  (PLANCK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0.13 eV  (CMBpol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55680" y="2793960"/>
            <a:ext cx="468144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.02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14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70 , 0.98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1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0640" y="843120"/>
            <a:ext cx="7880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Fisher matrix analysis: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expected sensitivities assuming a fiducial cosmological model, for future experiments with known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ffect of massive neutrinos on the CMB and Matter Power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5120" y="1181160"/>
            <a:ext cx="5464080" cy="54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64240" y="5900760"/>
            <a:ext cx="23464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ax Teg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www.hep.upenn.edu/~max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3775" b="0"/>
          <a:stretch/>
        </p:blipFill>
        <p:spPr>
          <a:xfrm>
            <a:off x="6183360" y="2109960"/>
            <a:ext cx="2851200" cy="317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2520" y="1892160"/>
            <a:ext cx="3809880" cy="3552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56240" y="4483800"/>
            <a:ext cx="4522320" cy="2288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 bias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 scales much clo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 linear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mograph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D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29160" y="191124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93400" y="4807440"/>
            <a:ext cx="4496040" cy="1426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kes CMB sensitiv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er neutrino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2520" y="1944720"/>
            <a:ext cx="382896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future weak lensing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4000º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~ 0.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bazajian &amp; Dode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0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37240" y="1944720"/>
            <a:ext cx="402084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C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primary + lens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= 0.15 eV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) = 0.044 eV (CMB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aplinghat, Knox &amp; S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2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MB lensing: rec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39874" b="0"/>
          <a:stretch/>
        </p:blipFill>
        <p:spPr>
          <a:xfrm>
            <a:off x="1082520" y="1641600"/>
            <a:ext cx="7120080" cy="2528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79280" y="944640"/>
            <a:ext cx="546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l-G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eV for future CMB experiments al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0" t="0" r="77677" b="0"/>
          <a:stretch/>
        </p:blipFill>
        <p:spPr>
          <a:xfrm>
            <a:off x="1082520" y="4170240"/>
            <a:ext cx="2619360" cy="2529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63799" t="0" r="0" b="0"/>
          <a:stretch/>
        </p:blipFill>
        <p:spPr>
          <a:xfrm>
            <a:off x="3701880" y="4170240"/>
            <a:ext cx="4287960" cy="252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560920" y="1955880"/>
            <a:ext cx="1698840" cy="472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1760" y="9446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Lesgourgues et al,            PRD 73 (2006) 045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omic Sans MS"/>
              </a:rPr>
              <a:t>Summary of future sensi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77920" y="1181160"/>
            <a:ext cx="8866080" cy="4346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7920" y="571500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Lesgourgues &amp; SP, Phys. Rep. 429 (2006) 3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08240" y="5719680"/>
            <a:ext cx="15692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e cos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shear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80080" y="4807080"/>
            <a:ext cx="101304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330960" y="3906360"/>
            <a:ext cx="249120" cy="180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End of 3rd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38440" y="1590840"/>
            <a:ext cx="34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trinos as Hot Dark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520" y="1498680"/>
            <a:ext cx="8389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ssive Neutrinos can still be subdominant DM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imits on m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from Structure Formation (combined with other cosmological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74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to get a bound (measurement) of neutrino masses from Co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87400" y="2917800"/>
            <a:ext cx="5592240" cy="1833120"/>
            <a:chOff x="887400" y="2917800"/>
            <a:chExt cx="5592240" cy="1833120"/>
          </a:xfrm>
        </p:grpSpPr>
        <p:grpSp>
          <p:nvGrpSpPr>
            <p:cNvPr id="69" name=""/>
            <p:cNvGrpSpPr/>
            <p:nvPr/>
          </p:nvGrpSpPr>
          <p:grpSpPr>
            <a:xfrm>
              <a:off x="887400" y="2917800"/>
              <a:ext cx="2497680" cy="1389960"/>
              <a:chOff x="887400" y="2917800"/>
              <a:chExt cx="2497680" cy="1389960"/>
            </a:xfrm>
          </p:grpSpPr>
          <p:pic>
            <p:nvPicPr>
              <p:cNvPr id="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7400" y="2917800"/>
                <a:ext cx="2497680" cy="12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7040" y="4123440"/>
                <a:ext cx="210780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3480480" y="2917800"/>
              <a:ext cx="2999160" cy="183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935080" y="4122360"/>
              <a:ext cx="897120" cy="42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97440" y="159876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00" y="1492200"/>
            <a:ext cx="36752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3320" y="5321160"/>
            <a:ext cx="17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821640" y="3144240"/>
            <a:ext cx="785520" cy="866520"/>
          </a:xfrm>
          <a:custGeom>
            <a:avLst/>
            <a:gdLst>
              <a:gd name="textAreaLeft" fmla="*/ 360 w 785520"/>
              <a:gd name="textAreaRight" fmla="*/ 786240 w 78552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94280" y="1833480"/>
            <a:ext cx="618840" cy="486000"/>
          </a:xfrm>
          <a:prstGeom prst="rightArrow">
            <a:avLst>
              <a:gd name="adj1" fmla="val 50000"/>
              <a:gd name="adj2" fmla="val 3183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0760" y="1743120"/>
            <a:ext cx="618840" cy="485640"/>
          </a:xfrm>
          <a:prstGeom prst="rightArrow">
            <a:avLst>
              <a:gd name="adj1" fmla="val 50000"/>
              <a:gd name="adj2" fmla="val 3185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068960" y="1598760"/>
            <a:ext cx="1657440" cy="86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247760" y="4898880"/>
            <a:ext cx="830160" cy="1184400"/>
          </a:xfrm>
          <a:custGeom>
            <a:avLst/>
            <a:gdLst>
              <a:gd name="textAreaLeft" fmla="*/ 0 w 830160"/>
              <a:gd name="textAreaRight" fmla="*/ 830520 w 830160"/>
              <a:gd name="textAreaTop" fmla="*/ 360 h 1184400"/>
              <a:gd name="textAreaBottom" fmla="*/ 118512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509920" y="5226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4280" y="5468760"/>
            <a:ext cx="1050840" cy="486000"/>
          </a:xfrm>
          <a:prstGeom prst="rightArrow">
            <a:avLst>
              <a:gd name="adj1" fmla="val 50000"/>
              <a:gd name="adj2" fmla="val 540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Cosm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960" y="966960"/>
            <a:ext cx="7626240" cy="59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Tempera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 plus data from other experiments at large multipoles (CBI, ACBAR, VSA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Polariza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Large Scale Struc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Galaxy Clustering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2dF,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ias (Galaxy, …):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mplitude of the Matter P(k)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,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0" lang="da-DK" sz="22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yman-α fore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independent measurement of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power on small 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aryon acoustic oscillation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Bound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parameters from other data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SNI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H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h)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ccff"/>
                </a:solidFill>
                <a:latin typeface="Comic Sans MS"/>
              </a:rPr>
              <a:t>Cosmological Parameters: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0040" y="1181160"/>
            <a:ext cx="5667480" cy="417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8880" y="5532480"/>
            <a:ext cx="35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DSS Coll, PRD 69 (2004) 1035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7480" y="2598840"/>
            <a:ext cx="53038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4680" y="2414520"/>
            <a:ext cx="4394160" cy="4024440"/>
            <a:chOff x="2344680" y="2414520"/>
            <a:chExt cx="4394160" cy="402444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37018" b="0"/>
            <a:stretch/>
          </p:blipFill>
          <p:spPr>
            <a:xfrm>
              <a:off x="2344680" y="2414520"/>
              <a:ext cx="439416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84600" y="5027400"/>
              <a:ext cx="406440" cy="459720"/>
              <a:chOff x="3684600" y="5027400"/>
              <a:chExt cx="40644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3684600" y="5084280"/>
                <a:ext cx="406440" cy="31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73160" y="502740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22600" y="4889520"/>
              <a:ext cx="560160" cy="38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640" y="2390760"/>
            <a:ext cx="81676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ifferent analyses have found upper bounds on neutrino masses, since they depen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combination of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cosmological dat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assumed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osmological model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number of parameters (problem of parameter degenerac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roperties of relic neutri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6:19:53Z</dcterms:created>
  <dc:creator>SERGIO  PASTOR</dc:creator>
  <dc:description/>
  <dc:language>en-US</dc:language>
  <cp:lastModifiedBy>Sergio Pastor</cp:lastModifiedBy>
  <dcterms:modified xsi:type="dcterms:W3CDTF">2006-08-23T08:49:15Z</dcterms:modified>
  <cp:revision>781</cp:revision>
  <dc:subject/>
  <dc:title>Neutrino oscillations in  dense neutrino me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\Seminarios\NuSelf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